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B4A-5B77-49C6-93F9-615BE23A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1D6-0E30-4EA9-9100-A5EF8236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4E6-3DAE-4AEE-8CD0-77C01147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8BBE-F808-4A84-BD0D-D2810C6D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82D5-06C3-42F1-89B9-7B11359C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33B4-134B-41E0-B433-248DD90E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5A88-6886-44FB-88E0-DD298899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D7E6-3C36-4182-8F57-A85D6342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5D9B-2303-4303-9D95-2913AC9A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A6A7-5626-44E8-A088-1FB9356F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224C-FDF2-4D32-A13C-E9E2EE74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806-44C8-410E-85F4-43E814DB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B4B9-A267-4D5D-8DED-12860FB2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983B-8DD3-418A-8671-9D39FC0D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E47A-1576-4342-B220-1556EE12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71E3-CF5A-4B3F-969B-C17BEAE7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894D-9B0C-4A33-BBA3-70CD1BE1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F54-A798-4616-9A39-DBCCA80B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5C6-70A1-48E9-B173-D23EC2E3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E7C-40D0-4DC6-B772-99E71C82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299-3B90-42FF-BA47-12F7422A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B63-DD9D-4157-8ED1-5043D0E2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63D-3C42-4777-A193-FDFC792C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ADA-F022-4A68-96E9-7132A1C1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EDE3-4261-494E-B57F-3D18FC4B332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2776-D566-4538-8715-B5C7CC13319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The Activity Reasoning Engine (ARE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ARE determines which objects are currently task relevant and which actions are worth analys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3 classes of generic (not object dependent) action: </a:t>
            </a:r>
            <a:r>
              <a:rPr b="0" lang="en-GB" sz="2800" spc="-1" strike="noStrike">
                <a:solidFill>
                  <a:srgbClr val="003366"/>
                </a:solidFill>
                <a:latin typeface="Courier New"/>
              </a:rPr>
              <a:t>pickup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3366"/>
                </a:solidFill>
                <a:latin typeface="Courier New"/>
              </a:rPr>
              <a:t>putdow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003366"/>
                </a:solidFill>
                <a:latin typeface="Courier New"/>
              </a:rPr>
              <a:t>press_butto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modelled as temporally structured BB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ighest level Control Policy represented as a binary decision tree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The Activity Reasoning Engine (ARE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tree_courseware" descr=""/>
          <p:cNvPicPr/>
          <p:nvPr/>
        </p:nvPicPr>
        <p:blipFill>
          <a:blip r:embed="rId1"/>
          <a:stretch/>
        </p:blipFill>
        <p:spPr>
          <a:xfrm>
            <a:off x="787320" y="2467080"/>
            <a:ext cx="5035680" cy="41814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711400" y="2325600"/>
            <a:ext cx="350532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he ARE asks for information about candidate hand objects. Once such objects start to move, they are visually attend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For each attended hand a Visual Index is created. This is a data object containing all relevant hand object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n Object Relationship Generator is used to pick out objects that the hand might be interacting wit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Use this decision tree to decide which actions are releva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5040" y="129996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The Activity Reasoning Engine (ARE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22600" y="2376360"/>
            <a:ext cx="8036280" cy="4443120"/>
            <a:chOff x="822600" y="2376360"/>
            <a:chExt cx="8036280" cy="4443120"/>
          </a:xfrm>
        </p:grpSpPr>
        <p:pic>
          <p:nvPicPr>
            <p:cNvPr id="160" name="tree1" descr=""/>
            <p:cNvPicPr/>
            <p:nvPr/>
          </p:nvPicPr>
          <p:blipFill>
            <a:blip r:embed="rId1"/>
            <a:stretch/>
          </p:blipFill>
          <p:spPr>
            <a:xfrm>
              <a:off x="6472080" y="3278160"/>
              <a:ext cx="2043360" cy="16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024200" y="2505240"/>
              <a:ext cx="1643760" cy="4597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Courier New"/>
                </a:rPr>
                <a:t>HandInf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54160" y="2955960"/>
              <a:ext cx="6593040" cy="30938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cap="rnd" w="255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44720" y="3343320"/>
              <a:ext cx="2901960" cy="161136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50000"/>
              </a:srgbClr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12960" y="3214800"/>
              <a:ext cx="2901960" cy="161136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50000"/>
              </a:srgbClr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81200" y="3086280"/>
              <a:ext cx="2901960" cy="161100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50000"/>
              </a:srgbClr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6480" y="3471840"/>
              <a:ext cx="2901960" cy="16113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94240" y="4286160"/>
              <a:ext cx="1252440" cy="8254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BBN Li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38440" y="3646440"/>
              <a:ext cx="130536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Hand Stat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08240" y="4094280"/>
              <a:ext cx="133524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Task Relevant Objects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6480" y="3608280"/>
              <a:ext cx="14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Visual Index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55800" y="2955960"/>
              <a:ext cx="857160" cy="45252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48320" y="3794040"/>
              <a:ext cx="1055520" cy="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680080" y="4438800"/>
              <a:ext cx="857160" cy="19368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52080" y="2376360"/>
              <a:ext cx="3106800" cy="4597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Courier New"/>
                </a:rPr>
                <a:t>RecogniseGestur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021280" y="2827440"/>
              <a:ext cx="1319040" cy="83808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55800" y="2955960"/>
              <a:ext cx="758880" cy="19368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90640" y="2892600"/>
              <a:ext cx="1054080" cy="96660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2600" y="6308640"/>
              <a:ext cx="3655440" cy="4597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Courier New"/>
                </a:rPr>
                <a:t>GetLostFoundObject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460520" y="4760640"/>
              <a:ext cx="1582560" cy="154764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525920" y="4967280"/>
              <a:ext cx="3297240" cy="161136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9840" y="2955960"/>
              <a:ext cx="158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Predictive Tree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99600" y="6176880"/>
              <a:ext cx="3746880" cy="6426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66"/>
                  </a:solidFill>
                  <a:latin typeface="Courier New"/>
                </a:rPr>
                <a:t>GetAppearedObjects </a:t>
              </a:r>
              <a:r>
                <a:rPr b="0" lang="en-GB" sz="1800" spc="-1" strike="noStrike">
                  <a:solidFill>
                    <a:srgbClr val="003366"/>
                  </a:solidFill>
                  <a:latin typeface="Times New Roman"/>
                </a:rPr>
                <a:t>and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66"/>
                  </a:solidFill>
                  <a:latin typeface="Courier New"/>
                </a:rPr>
                <a:t>Static GetLostFoundObjects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416200" y="4825800"/>
              <a:ext cx="1252440" cy="135252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35600" y="5472000"/>
              <a:ext cx="184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One-off Service Req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238640" y="4957920"/>
              <a:ext cx="593640" cy="452160"/>
            </a:xfrm>
            <a:prstGeom prst="line">
              <a:avLst/>
            </a:prstGeom>
            <a:ln w="604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78160" y="5405400"/>
              <a:ext cx="3335400" cy="368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Courier New"/>
                </a:rPr>
                <a:t>ProduceConceptFunctions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58080" y="598644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Continuous Service Req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25880" y="2441520"/>
              <a:ext cx="2192400" cy="4597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Courier New"/>
                </a:rPr>
                <a:t>HandPostur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5080" y="2844720"/>
              <a:ext cx="108000" cy="84636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05240" y="4024440"/>
              <a:ext cx="32040" cy="42372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2273400" y="2557440"/>
            <a:ext cx="2057400" cy="2057400"/>
            <a:chOff x="2273400" y="2557440"/>
            <a:chExt cx="2057400" cy="2057400"/>
          </a:xfrm>
        </p:grpSpPr>
        <p:pic>
          <p:nvPicPr>
            <p:cNvPr id="192" name="handprnt2" descr=""/>
            <p:cNvPicPr/>
            <p:nvPr/>
          </p:nvPicPr>
          <p:blipFill>
            <a:blip r:embed="rId1"/>
            <a:stretch/>
          </p:blipFill>
          <p:spPr>
            <a:xfrm>
              <a:off x="2883240" y="3167280"/>
              <a:ext cx="9144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273400" y="2557440"/>
              <a:ext cx="2057400" cy="205740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200400" y="5257800"/>
            <a:ext cx="38862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25480" y="5072040"/>
            <a:ext cx="3657600" cy="838080"/>
            <a:chOff x="825480" y="5072040"/>
            <a:chExt cx="3657600" cy="838080"/>
          </a:xfrm>
        </p:grpSpPr>
        <p:pic>
          <p:nvPicPr>
            <p:cNvPr id="196" name="handprnt2" descr=""/>
            <p:cNvPicPr/>
            <p:nvPr/>
          </p:nvPicPr>
          <p:blipFill>
            <a:blip r:embed="rId2"/>
            <a:stretch/>
          </p:blipFill>
          <p:spPr>
            <a:xfrm>
              <a:off x="3568680" y="5072040"/>
              <a:ext cx="9144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825480" y="5072040"/>
              <a:ext cx="3657600" cy="8380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59000" y="5452920"/>
              <a:ext cx="175248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635360" y="270972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re there is an spherical density around a hand object indicating where objects of interest may be fou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35360" y="476712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t we can use the trajectory vector of the hand (speed and direction) to specify a more task based dens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The ORG selecting objects “in scope” of a hand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Example behaviour mod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1400" y="2325600"/>
            <a:ext cx="350532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vidence for the root nodes is taken from the Visual Indexes for each hand obje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ctivation level of certain nodes can trigger requests for further data from lower-level system compon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order to recognise behaviours over time, we need to specify how this model is “rolled out”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pickup_courseware" descr=""/>
          <p:cNvPicPr/>
          <p:nvPr/>
        </p:nvPicPr>
        <p:blipFill>
          <a:blip r:embed="rId1"/>
          <a:stretch/>
        </p:blipFill>
        <p:spPr>
          <a:xfrm>
            <a:off x="1001880" y="2327400"/>
            <a:ext cx="44402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Rolling out the behavioural model over tim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407200" y="2528640"/>
            <a:ext cx="3504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 action BBNs are updated at each time ste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vidence for root nodes is provided by data from the appropriate Visual Index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ternal nodes are updated according to individual temporal update ru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pdate rules are Markov first order (only depend on the values from the previous time ste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143000" y="2743200"/>
            <a:ext cx="3809880" cy="2514600"/>
            <a:chOff x="1143000" y="2743200"/>
            <a:chExt cx="3809880" cy="2514600"/>
          </a:xfrm>
        </p:grpSpPr>
        <p:sp>
          <p:nvSpPr>
            <p:cNvPr id="208" name=""/>
            <p:cNvSpPr/>
            <p:nvPr/>
          </p:nvSpPr>
          <p:spPr>
            <a:xfrm>
              <a:off x="1143000" y="2743200"/>
              <a:ext cx="914400" cy="91440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90920" y="2743200"/>
              <a:ext cx="914400" cy="91440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38480" y="2743200"/>
              <a:ext cx="914400" cy="91440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43000" y="43434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90920" y="43434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38480" y="43434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57400" y="32004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05320" y="320040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00200" y="36576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48120" y="36576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95680" y="36576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66960" y="5421240"/>
            <a:ext cx="418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Shaded nodes represent the set of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current BBNs. Clear nodes are th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observation data derived from th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Visual Index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Temporal update rules - exampl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66880" y="2362320"/>
            <a:ext cx="8076600" cy="3657600"/>
            <a:chOff x="866880" y="2362320"/>
            <a:chExt cx="8076600" cy="3657600"/>
          </a:xfrm>
        </p:grpSpPr>
        <p:grpSp>
          <p:nvGrpSpPr>
            <p:cNvPr id="222" name=""/>
            <p:cNvGrpSpPr/>
            <p:nvPr/>
          </p:nvGrpSpPr>
          <p:grpSpPr>
            <a:xfrm>
              <a:off x="866880" y="2438280"/>
              <a:ext cx="3962160" cy="3581640"/>
              <a:chOff x="866880" y="2438280"/>
              <a:chExt cx="3962160" cy="3581640"/>
            </a:xfrm>
          </p:grpSpPr>
          <p:sp>
            <p:nvSpPr>
              <p:cNvPr id="223" name=""/>
              <p:cNvSpPr/>
              <p:nvPr/>
            </p:nvSpPr>
            <p:spPr>
              <a:xfrm>
                <a:off x="866880" y="2438280"/>
                <a:ext cx="3962160" cy="358164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324080" y="2971800"/>
                <a:ext cx="106668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00400" y="3338640"/>
                <a:ext cx="909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(X-is-empty)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000240" y="2971800"/>
                <a:ext cx="106704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76560" y="3324240"/>
                <a:ext cx="98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(X,Reach-out)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81280" y="4419720"/>
                <a:ext cx="205740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53880" y="4691160"/>
                <a:ext cx="134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(Mid-Point-State)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009880" y="3962520"/>
                <a:ext cx="304560" cy="533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3122640" y="3962520"/>
                <a:ext cx="411120" cy="48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51240" y="2670120"/>
                <a:ext cx="106200" cy="30168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733920" y="2732040"/>
                <a:ext cx="149040" cy="268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3949200" y="2982960"/>
                <a:ext cx="228600" cy="228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833560" y="5257800"/>
                <a:ext cx="14400" cy="344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981320" y="2362320"/>
              <a:ext cx="3962160" cy="3581280"/>
              <a:chOff x="4981320" y="2362320"/>
              <a:chExt cx="3962160" cy="3581280"/>
            </a:xfrm>
          </p:grpSpPr>
          <p:sp>
            <p:nvSpPr>
              <p:cNvPr id="237" name=""/>
              <p:cNvSpPr/>
              <p:nvPr/>
            </p:nvSpPr>
            <p:spPr>
              <a:xfrm>
                <a:off x="4981320" y="2362320"/>
                <a:ext cx="3962160" cy="358128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38520" y="2895480"/>
                <a:ext cx="1066680" cy="99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14840" y="3262320"/>
                <a:ext cx="909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(X-is-empty)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114680" y="2895480"/>
                <a:ext cx="1067040" cy="99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191000" y="3247920"/>
                <a:ext cx="98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(X,Reach-out)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95720" y="4343400"/>
                <a:ext cx="2057400" cy="837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268320" y="4614840"/>
                <a:ext cx="134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(Mid-Point-State)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24320" y="3886200"/>
                <a:ext cx="304560" cy="532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7237080" y="3886200"/>
                <a:ext cx="411120" cy="485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465680" y="2593800"/>
                <a:ext cx="106200" cy="301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7848360" y="2655720"/>
                <a:ext cx="149040" cy="267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8063640" y="2906640"/>
                <a:ext cx="228600" cy="228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948000" y="5181480"/>
                <a:ext cx="14400" cy="344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3838320" y="4800600"/>
              <a:ext cx="2057040" cy="0"/>
            </a:xfrm>
            <a:prstGeom prst="line">
              <a:avLst/>
            </a:prstGeom>
            <a:ln w="127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510200" y="5919840"/>
            <a:ext cx="67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</a:rPr>
              <a:t>Root nodes just take on their new values from one timestep to the nex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</a:rPr>
              <a:t>Internal nodes can also use their value at the previous timestep. Thi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</a:rPr>
              <a:t>allows us to model temporal continuit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Temporal update rules - exampl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87320" y="2801880"/>
          <a:ext cx="4872240" cy="32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2801880"/>
                    <a:ext cx="487224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527800" y="2474640"/>
            <a:ext cx="3504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put of node “charges” a temporal erosion capacitor (like a CR circuit in electronic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de value decays from peak charged val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resents belief “fading” as a function of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Viewing BBN behaviour as a function of tim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7" name="pickup_trace" descr=""/>
          <p:cNvPicPr/>
          <p:nvPr/>
        </p:nvPicPr>
        <p:blipFill>
          <a:blip r:embed="rId1"/>
          <a:stretch/>
        </p:blipFill>
        <p:spPr>
          <a:xfrm>
            <a:off x="1112760" y="2357280"/>
            <a:ext cx="7077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Example Activity Plan for CD scenario shown in video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15920" y="2405160"/>
            <a:ext cx="785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aw Concept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Line: 0: Time:   5.683, 'PRESSBUTTON, Hand 1, Object ejectButton 1‘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Line  1: Time:  13.004, 'PICKUP, Hand 3, Object cd-intel 7, Location undefined‘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Line  2: Time:  15.232, 'PUTDOWN, Hand 3, Object cd-intel 7, Location tray 14‘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Line  3: Time:  15.372, 'PRESSBUTTON, Hand 1, Object ejectButton 1‘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atural Language Version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ing the first hand press the ejectButton,with the second hand, pick up the cd-intel from anywhere,with the second hand, put down the cd-intel on the tray, and with the first hand, press the ejectButto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d-intel’ could be replace with ‘the Intel CD’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1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 based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ctIPret project (case stud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this lecture we shall see how some of the techniques we have seen thus far can be used to build real Cognitive Vision Syst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Future challenges …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urrent generic BBNs and Control Policy are hand coded, although gene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ctivity Plan is learned and can be used to store and index scenarios and for VR reco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ould be better to learn BBNs for behaviours primitives (actions) from repeated examples by the user (non-trivi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rther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cognition of Action, Activity and Behaviour in the ActIPret project”, K. H. Sage, A. J. Howell and H. Buxton, Knowledge Representation (forthcom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ActIPret project website at:http://actipret.infa.tuwien.ac.at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ask-based visual control requires a model of expectation to drive the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 the ActIPret project, the main aim is to interpret the activities of experts in the form of an Activity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e involves the Control Policy (encoded as a binary decision tree), Visual Indexes for relevant objects and temporally structured BBNs for the actions in the Activity Reasoning Eng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in Hidden Markov Models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 based visual contr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key notion is that we see “for a purpose” rather than see “as is”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ception is guided by expec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use a computational model of expectation to guide our processing of the sce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ttom-up (data driven) processing constrained by top-down (task based)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ttom-up / top-down vision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 generalised view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60600" y="2313000"/>
            <a:ext cx="5686200" cy="4429080"/>
            <a:chOff x="1560600" y="2313000"/>
            <a:chExt cx="5686200" cy="4429080"/>
          </a:xfrm>
        </p:grpSpPr>
        <p:sp>
          <p:nvSpPr>
            <p:cNvPr id="101" name=""/>
            <p:cNvSpPr/>
            <p:nvPr/>
          </p:nvSpPr>
          <p:spPr>
            <a:xfrm>
              <a:off x="4138560" y="2313000"/>
              <a:ext cx="18907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Scene Interpretatio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5240" y="3084480"/>
              <a:ext cx="0" cy="2936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64040" y="5156280"/>
              <a:ext cx="539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76920" y="5156280"/>
              <a:ext cx="540000" cy="3664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16560" y="6012000"/>
              <a:ext cx="676080" cy="36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192640" y="6012000"/>
              <a:ext cx="13356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26200" y="6012000"/>
              <a:ext cx="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192280" y="6256440"/>
              <a:ext cx="13356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41920" y="3932280"/>
              <a:ext cx="2700000" cy="611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41920" y="3075120"/>
              <a:ext cx="2700000" cy="6127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35480" y="5522760"/>
              <a:ext cx="1350720" cy="489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05480" y="5670720"/>
              <a:ext cx="272880" cy="29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056200" y="5522400"/>
              <a:ext cx="1890720" cy="48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435480" y="4543560"/>
              <a:ext cx="5396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571920" y="4543560"/>
              <a:ext cx="5396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516560" y="4543560"/>
              <a:ext cx="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651200" y="4543560"/>
              <a:ext cx="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001920" y="4543560"/>
              <a:ext cx="8096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6136920" y="4543560"/>
              <a:ext cx="8096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21200" y="368784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26200" y="368784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056200" y="283032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5960" y="5126040"/>
              <a:ext cx="9446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……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4880" y="3143160"/>
              <a:ext cx="24321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CONTROL POLICY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(WITH STATE MEMORY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09880" y="3995640"/>
              <a:ext cx="25909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FEATURE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SELECTION &amp; COMBINATION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5960" y="5183280"/>
              <a:ext cx="479160" cy="4618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49800" y="5170320"/>
              <a:ext cx="541440" cy="4892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07160" y="51688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12880" y="2554200"/>
              <a:ext cx="161928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Image Data Drive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60600" y="6006960"/>
              <a:ext cx="189072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ask Based Control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3512880" y="5646600"/>
              <a:ext cx="13208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l of expec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trajectory2" descr=""/>
          <p:cNvPicPr/>
          <p:nvPr/>
        </p:nvPicPr>
        <p:blipFill>
          <a:blip r:embed="rId1"/>
          <a:stretch/>
        </p:blipFill>
        <p:spPr>
          <a:xfrm>
            <a:off x="5127480" y="2478240"/>
            <a:ext cx="3711600" cy="3036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36720" y="247824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73800" y="5769000"/>
            <a:ext cx="402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he gaze direction (spot) shows the object that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he hand will interact with. This informatio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an be used to prime object recogni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78520" y="5813280"/>
            <a:ext cx="3792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r we could use a world co-ordinate centr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ystem with simple assumptions to d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he same th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l of expec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vlmm_fig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3733920" cy="2897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4882320" y="2971800"/>
            <a:ext cx="3943440" cy="2259000"/>
            <a:chOff x="4882320" y="2971800"/>
            <a:chExt cx="3943440" cy="2259000"/>
          </a:xfrm>
        </p:grpSpPr>
        <p:pic>
          <p:nvPicPr>
            <p:cNvPr id="140" name="bat3" descr=""/>
            <p:cNvPicPr/>
            <p:nvPr/>
          </p:nvPicPr>
          <p:blipFill>
            <a:blip r:embed="rId2"/>
            <a:stretch/>
          </p:blipFill>
          <p:spPr>
            <a:xfrm>
              <a:off x="4902120" y="2971800"/>
              <a:ext cx="3809520" cy="20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882320" y="4938840"/>
              <a:ext cx="3943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Times New Roman"/>
                </a:rPr>
                <a:t>Reproduced from Forbes/Huang/Kanazawa/Russell 1995</a:t>
              </a:r>
              <a:endParaRPr b="0" lang="en-US" sz="13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864000" y="5773680"/>
            <a:ext cx="393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We can use statistical models to provid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rajectory prediction based on current posi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(can be predicated on task or context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72320" y="5838840"/>
            <a:ext cx="373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We can use decision trees to select possibl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behaviour models from a set (like the BAT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Activity Interpretation of people handling tool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66880" y="2426760"/>
            <a:ext cx="8197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rpretation and recording of activities of people handling too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rsing expert sequences into behaviour elements and their functional depend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pert activities are stored in an Activity Pl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tivity Plan can be replayed to many us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abbildung" descr=""/>
          <p:cNvPicPr/>
          <p:nvPr/>
        </p:nvPicPr>
        <p:blipFill>
          <a:blip r:embed="rId1"/>
          <a:stretch/>
        </p:blipFill>
        <p:spPr>
          <a:xfrm>
            <a:off x="2133720" y="4022640"/>
            <a:ext cx="53942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The promo video!!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38280" y="2449440"/>
            <a:ext cx="580536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A distributed hierarchical system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ActIPret_FinalSetup_V2" descr=""/>
          <p:cNvPicPr/>
          <p:nvPr/>
        </p:nvPicPr>
        <p:blipFill>
          <a:blip r:embed="rId1"/>
          <a:stretch/>
        </p:blipFill>
        <p:spPr>
          <a:xfrm>
            <a:off x="1411200" y="2441520"/>
            <a:ext cx="631980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0:31:27Z</dcterms:created>
  <dc:creator>Sage</dc:creator>
  <dc:description/>
  <dc:language>en-US</dc:language>
  <cp:lastModifiedBy>Sage</cp:lastModifiedBy>
  <dcterms:modified xsi:type="dcterms:W3CDTF">2005-03-24T15:00:39Z</dcterms:modified>
  <cp:revision>100</cp:revision>
  <dc:subject/>
  <dc:title>Markov Models</dc:title>
</cp:coreProperties>
</file>